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402-CC8F-4066-8C9D-6212EEBA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DF9-43DB-4B80-B8F8-C1DE21B6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A3A-19BE-4013-B5F5-CC543D12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2A0-2F93-423C-9001-C6301B01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6C3-1250-439E-ADDF-E21C7AB2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AFF-FB42-409E-AC39-4798E2DD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ECD-0D3C-4273-9F49-6F31C94C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913-FBB2-461E-AF7A-7B78484C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C26-9D92-4642-A5B9-231DFEE4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14C-DFD4-4E1E-813C-62CE4D04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A98-FD25-41E0-A6B1-F4DF192E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BDC-1565-4F8A-85C2-B211B19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6B9-8055-445C-995C-F29D9C36E9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3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4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5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2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68520" y="685800"/>
            <a:ext cx="54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ecca22"/>
                </a:solidFill>
                <a:latin typeface="Times New Roman"/>
              </a:rPr>
              <a:t>Wind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1673280"/>
            <a:ext cx="76197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each slide carefully. Make sure pay attention to any diagra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527280"/>
            <a:ext cx="761976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questions when finished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79600" y="398520"/>
            <a:ext cx="386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50600" y="685800"/>
            <a:ext cx="290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urface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676520"/>
            <a:ext cx="7467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tween 30º and 60º latitude, winds called the prevailing westerlies blow in the opposite direction from trade wind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520" y="347040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vailing westerlies are responsible for much of the movement of weather across North Americ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50600" y="685800"/>
            <a:ext cx="290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urface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3520" y="16984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ar easterlies are found near the pol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261288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ar the north pole, easterlies blow from northeast to southwes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33520" y="398448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ar the south pole, polar easterlies blow from the southeast to the northwes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992600" y="685800"/>
            <a:ext cx="65905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Winds in the Upper Troposphere/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Lower Stratosphe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562720" y="2286000"/>
            <a:ext cx="3047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rrow belts of strong winds, called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jet stream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blow near the top of the troposp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81040" y="4648320"/>
            <a:ext cx="83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olar jet stream forms at the boundary of cold, dry polar air to the north and warmer, more moist air to the sou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9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0680" y="40528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m58 polar jet stream"/>
          <p:cNvPicPr/>
          <p:nvPr/>
        </p:nvPicPr>
        <p:blipFill>
          <a:blip r:embed="rId3"/>
          <a:stretch/>
        </p:blipFill>
        <p:spPr>
          <a:xfrm>
            <a:off x="1143000" y="1905120"/>
            <a:ext cx="4224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02080" y="685800"/>
            <a:ext cx="6393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Winds in the Upper Troposphe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1698480"/>
            <a:ext cx="7619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jet stream moves faster in the winter because the difference between cold air and warm air is great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352728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jet stream helps move storms across the countr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87320" y="685800"/>
            <a:ext cx="3934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Local Wind Syste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3520" y="1600200"/>
            <a:ext cx="7619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lobal wind systems determine the major weather patterns for the entire plan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33520" y="28987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er wind systems affect local weath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33520" y="377496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you live near a large body of water, you’re familiar with two such wind systems—sea breezes and land breez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247760"/>
            <a:ext cx="426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heated air is less dense and has lower press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685960"/>
            <a:ext cx="426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oler, denser air over the water has higher pressure and flows toward the warmer, less dense 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33520" y="4971960"/>
            <a:ext cx="8153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onvection current results, and wind blows from the sea toward the la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12" descr="im61 daytime winds"/>
          <p:cNvPicPr/>
          <p:nvPr/>
        </p:nvPicPr>
        <p:blipFill>
          <a:blip r:embed="rId1"/>
          <a:stretch/>
        </p:blipFill>
        <p:spPr>
          <a:xfrm>
            <a:off x="4829040" y="1762200"/>
            <a:ext cx="3853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33520" y="1413000"/>
            <a:ext cx="3886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sea breez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created during the day because solar radiation warms the land more than the wat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4289400"/>
            <a:ext cx="4114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over the land is heated by conduc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9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0760" y="370044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im61 daytime winds"/>
          <p:cNvPicPr/>
          <p:nvPr/>
        </p:nvPicPr>
        <p:blipFill>
          <a:blip r:embed="rId3"/>
          <a:stretch/>
        </p:blipFill>
        <p:spPr>
          <a:xfrm>
            <a:off x="4829040" y="1762200"/>
            <a:ext cx="3853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303200"/>
            <a:ext cx="3276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reverse occurs at night, when land cools much more rapidly than ocean wat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3520" y="4022640"/>
            <a:ext cx="327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over the land becomes cooler than air over the ocea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10" descr="im63 night winds"/>
          <p:cNvPicPr/>
          <p:nvPr/>
        </p:nvPicPr>
        <p:blipFill>
          <a:blip r:embed="rId1"/>
          <a:stretch/>
        </p:blipFill>
        <p:spPr>
          <a:xfrm>
            <a:off x="3886200" y="1940040"/>
            <a:ext cx="479592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2"/>
          <p:cNvGrpSpPr/>
          <p:nvPr/>
        </p:nvGrpSpPr>
        <p:grpSpPr>
          <a:xfrm>
            <a:off x="533520" y="1374840"/>
            <a:ext cx="8229600" cy="1519200"/>
            <a:chOff x="533520" y="1374840"/>
            <a:chExt cx="8229600" cy="1519200"/>
          </a:xfrm>
        </p:grpSpPr>
        <p:sp>
          <p:nvSpPr>
            <p:cNvPr id="145" name="Text Box 3"/>
            <p:cNvSpPr/>
            <p:nvPr/>
          </p:nvSpPr>
          <p:spPr>
            <a:xfrm>
              <a:off x="533520" y="137484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ooler, denser air above the land moves over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914400" y="1812960"/>
              <a:ext cx="25304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he water, as the warm air over the water rises.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33520" y="3651120"/>
            <a:ext cx="3352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ement of air toward the water from the land is called a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land breez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73400" y="550080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im63 night winds"/>
          <p:cNvPicPr/>
          <p:nvPr/>
        </p:nvPicPr>
        <p:blipFill>
          <a:blip r:embed="rId3"/>
          <a:stretch/>
        </p:blipFill>
        <p:spPr>
          <a:xfrm>
            <a:off x="3886200" y="1940040"/>
            <a:ext cx="479592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502800" y="0"/>
            <a:ext cx="29286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ca22"/>
                </a:solidFill>
                <a:latin typeface="Calibri"/>
              </a:rPr>
              <a:t>Lesson Chec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769400" y="785880"/>
            <a:ext cx="27075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results from the Coriolis effec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70320" y="685800"/>
            <a:ext cx="308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rming Wi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16732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is mostly rock or land, with three-fourths of its surface covered by a relatively thin layer of water, the ocean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520" y="352728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two areas strongly influence global wind syste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79600" y="398520"/>
            <a:ext cx="386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69040" y="785880"/>
            <a:ext cx="2632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Calibri"/>
              </a:rPr>
              <a:t>Question</a:t>
            </a: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93640" y="149400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rrow belts of strong winds blowing near the top of the troposphere are __________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95440" y="3292560"/>
            <a:ext cx="794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arctic bla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doldru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El N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jet strea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769040" y="785880"/>
            <a:ext cx="2632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Calibri"/>
              </a:rPr>
              <a:t>Question</a:t>
            </a: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 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93640" y="149400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ich of these is created during the day when solar radiation warms the land more than the water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09480" y="336852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jet str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land breez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polar str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sea bree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ck your answers!!!!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id you rememb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776240" y="785880"/>
            <a:ext cx="421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Answer ---Question 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3640" y="1494000"/>
            <a:ext cx="794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ving air turns to the right in the northern hemisphere and to the left in the southern hemisphere as a result of the Coriolis effec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Picture 6" descr="im52 corriolis effect"/>
          <p:cNvPicPr/>
          <p:nvPr/>
        </p:nvPicPr>
        <p:blipFill>
          <a:blip r:embed="rId1"/>
          <a:stretch/>
        </p:blipFill>
        <p:spPr>
          <a:xfrm>
            <a:off x="4343400" y="3276720"/>
            <a:ext cx="40384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71200" y="609480"/>
            <a:ext cx="4281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Answer</a:t>
            </a:r>
            <a:r>
              <a:rPr b="1" lang="en-US" sz="4000" spc="-1" strike="noStrike">
                <a:solidFill>
                  <a:srgbClr val="ecca22"/>
                </a:solidFill>
                <a:latin typeface="Calibri"/>
              </a:rPr>
              <a:t> –Question 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93640" y="149400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nswer is D. The jet stream moves faster in the winter because of the greater temperature difference  between cold and warm ai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776960" y="785880"/>
            <a:ext cx="412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Answer – Question 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93640" y="149400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nswer is D. Cooler air over the water flows toward the warmer air on land, creating a sea breez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7" descr="im61 daytime winds"/>
          <p:cNvPicPr/>
          <p:nvPr/>
        </p:nvPicPr>
        <p:blipFill>
          <a:blip r:embed="rId1"/>
          <a:stretch/>
        </p:blipFill>
        <p:spPr>
          <a:xfrm>
            <a:off x="2324160" y="2743200"/>
            <a:ext cx="407664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80840" y="685800"/>
            <a:ext cx="286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Forming Wi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13716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even heating of Earth’s surface by the Sun causes some areas to be warmer than other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2971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auses air pressure to be generally lower where air is heat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33520" y="432108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nd is the movement of air from an area of higher pressure to an area of lower pressu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638720" y="685800"/>
            <a:ext cx="2215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Heated Ai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33520" y="1278000"/>
            <a:ext cx="8381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s of Earth receive different amounts of radiation from the Sun because Earth is curve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10" descr="im50 sun's rays striking"/>
          <p:cNvPicPr/>
          <p:nvPr/>
        </p:nvPicPr>
        <p:blipFill>
          <a:blip r:embed="rId1"/>
          <a:stretch/>
        </p:blipFill>
        <p:spPr>
          <a:xfrm>
            <a:off x="3733920" y="2444760"/>
            <a:ext cx="48481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2"/>
          <p:cNvGrpSpPr/>
          <p:nvPr/>
        </p:nvGrpSpPr>
        <p:grpSpPr>
          <a:xfrm>
            <a:off x="533520" y="2328840"/>
            <a:ext cx="2971800" cy="2779200"/>
            <a:chOff x="533520" y="2328840"/>
            <a:chExt cx="2971800" cy="2779200"/>
          </a:xfrm>
        </p:grpSpPr>
        <p:sp>
          <p:nvSpPr>
            <p:cNvPr id="63" name="Text Box 4"/>
            <p:cNvSpPr/>
            <p:nvPr/>
          </p:nvSpPr>
          <p:spPr>
            <a:xfrm>
              <a:off x="533520" y="2328840"/>
              <a:ext cx="297180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he heated air at the equator is less dense, so it is displaced by denser, colder air, creating convection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1033200" y="464832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urrents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38720" y="685800"/>
            <a:ext cx="2215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Heated Ai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676520"/>
            <a:ext cx="7696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cold, denser air comes from the poles, which receive less radiation from the Sun, making air at the poles much cool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3527280"/>
            <a:ext cx="7772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esulting dense, high-pressure air sinks and moves along Earth’s surfac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2"/>
          <p:cNvGrpSpPr/>
          <p:nvPr/>
        </p:nvGrpSpPr>
        <p:grpSpPr>
          <a:xfrm>
            <a:off x="533520" y="1251000"/>
            <a:ext cx="8305560" cy="2051640"/>
            <a:chOff x="533520" y="1251000"/>
            <a:chExt cx="8305560" cy="2051640"/>
          </a:xfrm>
        </p:grpSpPr>
        <p:sp>
          <p:nvSpPr>
            <p:cNvPr id="71" name="Text Box 3"/>
            <p:cNvSpPr/>
            <p:nvPr/>
          </p:nvSpPr>
          <p:spPr>
            <a:xfrm>
              <a:off x="533520" y="1251000"/>
              <a:ext cx="830556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he rotation of Earth causes moving air and water to appear to turn to the right north of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838080" y="2057400"/>
              <a:ext cx="303048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he equator and to the left south of the equator.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3" name="Text Box 2"/>
          <p:cNvSpPr/>
          <p:nvPr/>
        </p:nvSpPr>
        <p:spPr>
          <a:xfrm>
            <a:off x="1721880" y="685800"/>
            <a:ext cx="3585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The Coriolis Eff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3641760"/>
            <a:ext cx="3047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is called the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Coriol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kohr ee OH lus)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effec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06560" y="504360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im52 corriolis effect"/>
          <p:cNvPicPr/>
          <p:nvPr/>
        </p:nvPicPr>
        <p:blipFill>
          <a:blip r:embed="rId3"/>
          <a:stretch/>
        </p:blipFill>
        <p:spPr>
          <a:xfrm>
            <a:off x="3809880" y="2438280"/>
            <a:ext cx="47246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721880" y="685800"/>
            <a:ext cx="3585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The Coriolis Eff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3520" y="16794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low of air caused by differences in the amount of solar radiation received on Earth’s surface and by the Coriolis effect creates distinct wind patterns on Earth’s surfa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50600" y="685800"/>
            <a:ext cx="290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urface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3520" y="1676520"/>
            <a:ext cx="7467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descending to Earth’s surface near 30º north and south latitude creates steady winds that blow in tropical region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47040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called trade winds because early sailors used their dependability to establish trade rout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653840" y="685800"/>
            <a:ext cx="271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Global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47920"/>
            <a:ext cx="7467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rly sailors discovered that the wind patterns on Earth helped them navigate the ocea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3520" y="28414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metimes sailors found little or no wind to move their sailing ships near the equato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520" y="3940200"/>
            <a:ext cx="777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also rained nearly every afternoon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4594320"/>
            <a:ext cx="7772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windless, rainy zone near the equator is called the doldrum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20:34:31Z</dcterms:created>
  <dc:creator>pcsuser</dc:creator>
  <dc:description/>
  <dc:language>en-US</dc:language>
  <cp:lastModifiedBy>pcsuser</cp:lastModifiedBy>
  <dcterms:modified xsi:type="dcterms:W3CDTF">2011-05-12T20:51:52Z</dcterms:modified>
  <cp:revision>8</cp:revision>
  <dc:subject/>
  <dc:title>Slide 1</dc:title>
</cp:coreProperties>
</file>